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28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7.wmf" ContentType="image/x-wmf"/>
  <Override PartName="/ppt/media/image5.png" ContentType="image/png"/>
  <Override PartName="/ppt/media/image8.jpeg" ContentType="image/jpeg"/>
  <Override PartName="/ppt/media/image30.png" ContentType="image/png"/>
  <Override PartName="/ppt/media/image12.png" ContentType="image/png"/>
  <Override PartName="/ppt/media/image13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2BE1-1E63-481D-AB3F-F850FE59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105-B781-4DCB-AC14-CAC669AA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E15-0FD6-4A40-8B70-37D01352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B581-3B67-46FF-A06E-037DFF40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E063-2170-404A-ACBC-2DF3A679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AAB4-66C0-4824-A98F-D90ABE76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3DF9-E7C9-4785-B517-3B8F5609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A46F-FC62-4904-82C7-E171A612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7D11-B294-4352-A22F-1AF9E0A7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56E-35D8-461A-B3B8-B94328C5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2D2-FC23-40DA-9ABC-F36503F4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7CB-6ADE-46A0-94CC-3F393D39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04D7-469D-4C7C-806C-BCD8EEADC2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Центр надання адміністративних послуг Видео"/>
          <p:cNvPicPr/>
          <p:nvPr/>
        </p:nvPicPr>
        <p:blipFill>
          <a:blip r:embed="rId1"/>
          <a:srcRect l="0" t="9260" r="0" b="0"/>
          <a:stretch/>
        </p:blipFill>
        <p:spPr>
          <a:xfrm>
            <a:off x="0" y="0"/>
            <a:ext cx="9144000" cy="4667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Центр надання адміністративних послуг Видео"/>
          <p:cNvPicPr/>
          <p:nvPr/>
        </p:nvPicPr>
        <p:blipFill>
          <a:blip r:embed="rId2"/>
          <a:srcRect l="0" t="28614" r="0" b="0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6"/>
          <p:cNvPicPr/>
          <p:nvPr/>
        </p:nvPicPr>
        <p:blipFill>
          <a:blip r:embed="rId3"/>
          <a:stretch/>
        </p:blipFill>
        <p:spPr>
          <a:xfrm>
            <a:off x="289080" y="2421000"/>
            <a:ext cx="826920" cy="819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431640" y="2565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alifornian FB"/>
              </a:rPr>
              <a:t>ДНІПРОДЗЕРЖИНСЬКА   МІСЬКА   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Центр надання адміністративних послуг Виде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d6"/>
          <p:cNvPicPr/>
          <p:nvPr/>
        </p:nvPicPr>
        <p:blipFill>
          <a:blip r:embed="rId2"/>
          <a:stretch/>
        </p:blipFill>
        <p:spPr>
          <a:xfrm>
            <a:off x="324000" y="115920"/>
            <a:ext cx="1116000" cy="1106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1258920" y="2838600"/>
            <a:ext cx="201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26150</a:t>
            </a:r>
            <a:br>
              <a:rPr sz="3600"/>
            </a:b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273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4920" y="501336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xxxxxxxxxx@xxx.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-36360" y="5805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ndz.gov.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-325440" y="2324160"/>
            <a:ext cx="496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uk-UA" sz="2600" spc="-1" strike="noStrike">
                <a:solidFill>
                  <a:srgbClr val="333399"/>
                </a:solidFill>
                <a:latin typeface="Arial"/>
              </a:rPr>
              <a:t>Комсомольський,10/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-3816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056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Центр надання адміністративних послуг Виде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71280" y="40831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d60093"/>
                </a:solidFill>
                <a:latin typeface="Arial Black"/>
              </a:rPr>
              <a:t>ДОСТУПНО</a:t>
            </a:r>
            <a:r>
              <a:rPr b="1" i="1" lang="uk-UA" sz="3200" spc="-1" strike="noStrike">
                <a:solidFill>
                  <a:srgbClr val="ffff00"/>
                </a:solidFill>
                <a:latin typeface="Arial Black"/>
              </a:rPr>
              <a:t> ВСІМ, </a:t>
            </a:r>
            <a:r>
              <a:rPr b="1" i="1" lang="uk-UA" sz="3200" spc="-1" strike="noStrike">
                <a:solidFill>
                  <a:srgbClr val="d60093"/>
                </a:solidFill>
                <a:latin typeface="Arial Black"/>
              </a:rPr>
              <a:t>ЗРУЧНО</a:t>
            </a:r>
            <a:r>
              <a:rPr b="1" i="1" lang="uk-UA" sz="3200" spc="-1" strike="noStrike">
                <a:solidFill>
                  <a:srgbClr val="ffff00"/>
                </a:solidFill>
                <a:latin typeface="Arial Black"/>
              </a:rPr>
              <a:t> КОЖ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Центр надання адміністративних послуг Виде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logo new 3"/>
          <p:cNvPicPr/>
          <p:nvPr/>
        </p:nvPicPr>
        <p:blipFill>
          <a:blip r:embed="rId2"/>
          <a:stretch/>
        </p:blipFill>
        <p:spPr>
          <a:xfrm>
            <a:off x="5867280" y="-819000"/>
            <a:ext cx="4170600" cy="2928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250920" y="18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ОСЛУГИ ЦЕНТ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8"/>
          <p:cNvSpPr/>
          <p:nvPr/>
        </p:nvSpPr>
        <p:spPr>
          <a:xfrm>
            <a:off x="0" y="4581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земельні віднос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9"/>
          <p:cNvSpPr/>
          <p:nvPr/>
        </p:nvSpPr>
        <p:spPr>
          <a:xfrm>
            <a:off x="34920" y="486900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будівництво та архіте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0"/>
          <p:cNvSpPr/>
          <p:nvPr/>
        </p:nvSpPr>
        <p:spPr>
          <a:xfrm>
            <a:off x="34920" y="51195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реєстрація нерухом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1"/>
          <p:cNvSpPr/>
          <p:nvPr/>
        </p:nvSpPr>
        <p:spPr>
          <a:xfrm>
            <a:off x="34920" y="591192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рекламна діяльні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2"/>
          <p:cNvSpPr/>
          <p:nvPr/>
        </p:nvSpPr>
        <p:spPr>
          <a:xfrm>
            <a:off x="34920" y="540864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реєстрація бізне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3"/>
          <p:cNvSpPr/>
          <p:nvPr/>
        </p:nvSpPr>
        <p:spPr>
          <a:xfrm>
            <a:off x="0" y="5661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держпожежнагл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4"/>
          <p:cNvSpPr/>
          <p:nvPr/>
        </p:nvSpPr>
        <p:spPr>
          <a:xfrm>
            <a:off x="3995640" y="515772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санітарний та ветеринарний нагл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3995640" y="569592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житлово-комунальне госпо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6"/>
          <p:cNvSpPr/>
          <p:nvPr/>
        </p:nvSpPr>
        <p:spPr>
          <a:xfrm>
            <a:off x="3995640" y="4869000"/>
            <a:ext cx="48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послуги соціального характ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7"/>
          <p:cNvSpPr/>
          <p:nvPr/>
        </p:nvSpPr>
        <p:spPr>
          <a:xfrm>
            <a:off x="34920" y="616572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торгівельна діяльні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8"/>
          <p:cNvSpPr/>
          <p:nvPr/>
        </p:nvSpPr>
        <p:spPr>
          <a:xfrm>
            <a:off x="34920" y="6416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еколог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9"/>
          <p:cNvSpPr/>
          <p:nvPr/>
        </p:nvSpPr>
        <p:spPr>
          <a:xfrm>
            <a:off x="3995640" y="5445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діяльність громадських організац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0"/>
          <p:cNvSpPr/>
          <p:nvPr/>
        </p:nvSpPr>
        <p:spPr>
          <a:xfrm>
            <a:off x="3995640" y="5985000"/>
            <a:ext cx="61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довідки соціально-побутового </a:t>
            </a:r>
            <a:br>
              <a:rPr sz="2000"/>
            </a:b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характ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2"/>
          <p:cNvSpPr/>
          <p:nvPr/>
        </p:nvSpPr>
        <p:spPr>
          <a:xfrm>
            <a:off x="4032360" y="458136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реєстрація декларацій відповід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4" descr=""/>
          <p:cNvPicPr/>
          <p:nvPr/>
        </p:nvPicPr>
        <p:blipFill>
          <a:blip r:embed="rId3"/>
          <a:stretch/>
        </p:blipFill>
        <p:spPr>
          <a:xfrm>
            <a:off x="785880" y="928800"/>
            <a:ext cx="73054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Центр надання адміністративних послуг Виде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logo new 3"/>
          <p:cNvPicPr/>
          <p:nvPr/>
        </p:nvPicPr>
        <p:blipFill>
          <a:blip r:embed="rId2"/>
          <a:stretch/>
        </p:blipFill>
        <p:spPr>
          <a:xfrm>
            <a:off x="5867280" y="-868320"/>
            <a:ext cx="4170600" cy="2928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4788000" y="2205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Arial Rounded MT Bold"/>
              </a:rPr>
              <a:t>ПН          </a:t>
            </a:r>
            <a:r>
              <a:rPr b="1" lang="uk-UA" sz="2400" spc="-1" strike="noStrike">
                <a:solidFill>
                  <a:srgbClr val="333399"/>
                </a:solidFill>
                <a:latin typeface="Arial Rounded MT Bold"/>
              </a:rPr>
              <a:t>8.00 – 17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788000" y="2492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Arial Rounded MT Bold"/>
              </a:rPr>
              <a:t>ВТ           8.00  -   2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4788000" y="2781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Arial Rounded MT Bold"/>
              </a:rPr>
              <a:t>СР          </a:t>
            </a:r>
            <a:r>
              <a:rPr b="1" lang="uk-UA" sz="2400" spc="-1" strike="noStrike">
                <a:solidFill>
                  <a:srgbClr val="333399"/>
                </a:solidFill>
                <a:latin typeface="Arial Rounded MT Bold"/>
              </a:rPr>
              <a:t>8.00 – 17.00</a:t>
            </a:r>
            <a:r>
              <a:rPr b="1" lang="uk-UA" sz="2400" spc="-1" strike="noStrike">
                <a:solidFill>
                  <a:srgbClr val="333399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788000" y="39085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 Rounded MT Bold"/>
              </a:rPr>
              <a:t>ВС          вихід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788000" y="30430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Arial Rounded MT Bold"/>
              </a:rPr>
              <a:t>ЧТ           8.00  -   2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4788000" y="3284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Arial Rounded MT Bold"/>
              </a:rPr>
              <a:t>ПТ          </a:t>
            </a:r>
            <a:r>
              <a:rPr b="1" lang="uk-UA" sz="2400" spc="-1" strike="noStrike">
                <a:solidFill>
                  <a:srgbClr val="333399"/>
                </a:solidFill>
                <a:latin typeface="Arial Rounded MT Bold"/>
              </a:rPr>
              <a:t>8.00 – 17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788000" y="35481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Arial Rounded MT Bold"/>
              </a:rPr>
              <a:t>СБ          9.00  -   16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250920" y="189000"/>
            <a:ext cx="51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ЗРУЧНИЙ ДЛЯ КЛІЄНТІВ РЕЖ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187280" y="53737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Calibri"/>
              </a:rPr>
              <a:t>БЕЗ ОБІДНІХ ПЕРЕР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Центр надання адміністративних послуг Виде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324000" y="18900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ЗРУЧНІ СЕРВІСИ У ЦН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logo new 3"/>
          <p:cNvPicPr/>
          <p:nvPr/>
        </p:nvPicPr>
        <p:blipFill>
          <a:blip r:embed="rId2"/>
          <a:stretch/>
        </p:blipFill>
        <p:spPr>
          <a:xfrm>
            <a:off x="5867280" y="-868320"/>
            <a:ext cx="4170600" cy="292896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142920" y="1000080"/>
            <a:ext cx="2643120" cy="865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Банківські платіжні</a:t>
            </a:r>
            <a:br>
              <a:rPr sz="2000"/>
            </a:b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термінали та банко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5429160" y="3214800"/>
            <a:ext cx="3529080" cy="79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Система кондиціонування </a:t>
            </a:r>
            <a:br>
              <a:rPr sz="2000"/>
            </a:b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повіт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142920" y="5715000"/>
            <a:ext cx="2808360" cy="865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Електронний </a:t>
            </a:r>
            <a:br>
              <a:rPr sz="2000"/>
            </a:b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інформаційний кіо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5857920" y="2000160"/>
            <a:ext cx="3097080" cy="1079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Пункт надання </a:t>
            </a:r>
            <a:br>
              <a:rPr sz="2000"/>
            </a:b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послуг копіювання, </a:t>
            </a:r>
            <a:br>
              <a:rPr sz="2000"/>
            </a:b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фотографування та і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3071880" y="5715000"/>
            <a:ext cx="2143080" cy="865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Комфортні умови </a:t>
            </a:r>
            <a:br>
              <a:rPr sz="2000"/>
            </a:b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у приміщен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3286080" y="920880"/>
            <a:ext cx="2592360" cy="865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Вільна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WiFi </a:t>
            </a: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з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/>
          <p:cNvSpPr/>
          <p:nvPr/>
        </p:nvSpPr>
        <p:spPr>
          <a:xfrm>
            <a:off x="6286680" y="992160"/>
            <a:ext cx="2678040" cy="865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Картковий платіжний </a:t>
            </a:r>
            <a:br>
              <a:rPr sz="2000"/>
            </a:b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термінал на рецеп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>
            <a:off x="5357880" y="5143680"/>
            <a:ext cx="3570120" cy="1001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Кімната особистої гігієни </a:t>
            </a:r>
            <a:br>
              <a:rPr sz="2000"/>
            </a:b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для відвідувачів </a:t>
            </a:r>
            <a:br>
              <a:rPr sz="2000"/>
            </a:b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(в т.ч. з особливими потреба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6"/>
          <p:cNvSpPr/>
          <p:nvPr/>
        </p:nvSpPr>
        <p:spPr>
          <a:xfrm>
            <a:off x="5572080" y="4143240"/>
            <a:ext cx="3378240" cy="865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Система відеоспостереження </a:t>
            </a:r>
            <a:br>
              <a:rPr sz="2000"/>
            </a:b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за кожним робочим місц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5"/>
          <p:cNvSpPr/>
          <p:nvPr/>
        </p:nvSpPr>
        <p:spPr>
          <a:xfrm>
            <a:off x="142920" y="2000160"/>
            <a:ext cx="3071880" cy="1001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Електронна система </a:t>
            </a:r>
            <a:br>
              <a:rPr sz="2000"/>
            </a:b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керування черг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142920" y="3143160"/>
            <a:ext cx="3570120" cy="1001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Електронна система оцінки </a:t>
            </a:r>
            <a:br>
              <a:rPr sz="2000"/>
            </a:b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якості обслугов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5"/>
          <p:cNvSpPr/>
          <p:nvPr/>
        </p:nvSpPr>
        <p:spPr>
          <a:xfrm>
            <a:off x="142920" y="4286160"/>
            <a:ext cx="3570120" cy="1285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Комп'ютер для самостійного </a:t>
            </a:r>
            <a:br>
              <a:rPr sz="2000"/>
            </a:b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доступу відвідувачів до </a:t>
            </a:r>
            <a:br>
              <a:rPr sz="2000"/>
            </a:b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порталу елекронних послуг 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i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Центр надання адміністративних послуг Виде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logo new 3"/>
          <p:cNvPicPr/>
          <p:nvPr/>
        </p:nvPicPr>
        <p:blipFill>
          <a:blip r:embed="rId2"/>
          <a:stretch/>
        </p:blipFill>
        <p:spPr>
          <a:xfrm>
            <a:off x="5867280" y="-819000"/>
            <a:ext cx="4170600" cy="2928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71280" y="235080"/>
            <a:ext cx="67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ОСОБИСТИЙ віртуальний кабінет кліє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0" y="4205160"/>
            <a:ext cx="6516720" cy="26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66"/>
                </a:solidFill>
                <a:latin typeface="Times New Roman"/>
              </a:rPr>
              <a:t>- після реєстрації у Центрі заяви, виконавці миттєво через Інтернет отримують справу для її опрацювання. За необхідності адміністратори забезпечують сканування документів для їх відправки виконавцям у режимі реального часу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66"/>
                </a:solidFill>
                <a:latin typeface="Times New Roman"/>
              </a:rPr>
              <a:t>- клієнти мають змогу у режимі реального часу відслідковувати через Інтернет стан розгляду справ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66"/>
                </a:solidFill>
                <a:latin typeface="Times New Roman"/>
              </a:rPr>
              <a:t>- забезпечується автоматичний контроль за строками надання послуг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66"/>
                </a:solidFill>
                <a:latin typeface="Times New Roman"/>
              </a:rPr>
              <a:t>- за результатами опрацювання справи клієнт отримує </a:t>
            </a:r>
            <a:br>
              <a:rPr sz="1700"/>
            </a:br>
            <a:r>
              <a:rPr b="1" lang="uk-UA" sz="1700" spc="-1" strike="noStrike">
                <a:solidFill>
                  <a:srgbClr val="000066"/>
                </a:solidFill>
                <a:latin typeface="Times New Roman"/>
              </a:rPr>
              <a:t>СМС-провідослення про можливість отримання документів.</a:t>
            </a:r>
            <a:r>
              <a:rPr b="1" lang="ru-RU" sz="17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" descr="Центр надання адміністративних послуг Виде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logo new 3"/>
          <p:cNvPicPr/>
          <p:nvPr/>
        </p:nvPicPr>
        <p:blipFill>
          <a:blip r:embed="rId2"/>
          <a:stretch/>
        </p:blipFill>
        <p:spPr>
          <a:xfrm>
            <a:off x="5873760" y="-819000"/>
            <a:ext cx="4170240" cy="2928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1"/>
          <p:cNvSpPr/>
          <p:nvPr/>
        </p:nvSpPr>
        <p:spPr>
          <a:xfrm>
            <a:off x="324000" y="189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ОПУЛЯРНІСТЬ ЦНАП ЗРОСТА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Центр надання адміністративних послуг Видео"/>
          <p:cNvPicPr/>
          <p:nvPr/>
        </p:nvPicPr>
        <p:blipFill>
          <a:blip r:embed="rId3"/>
          <a:stretch/>
        </p:blipFill>
        <p:spPr>
          <a:xfrm>
            <a:off x="0" y="86364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100" name="Object 8" descr=""/>
          <p:cNvPicPr/>
          <p:nvPr/>
        </p:nvPicPr>
        <p:blipFill>
          <a:blip r:embed="rId4"/>
          <a:stretch/>
        </p:blipFill>
        <p:spPr>
          <a:xfrm>
            <a:off x="539640" y="1209600"/>
            <a:ext cx="8280360" cy="5648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-108000" y="981000"/>
            <a:ext cx="93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Кількість наданих через ЦНАП послуг по відношенню до попередніх період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7" descr="Центр надання адміністративних послуг Виде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logo new 3"/>
          <p:cNvPicPr/>
          <p:nvPr/>
        </p:nvPicPr>
        <p:blipFill>
          <a:blip r:embed="rId2"/>
          <a:stretch/>
        </p:blipFill>
        <p:spPr>
          <a:xfrm>
            <a:off x="5730840" y="-819000"/>
            <a:ext cx="4170240" cy="29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konsalting-%D0%BA%D0%BE%D0%BD%D1%81%D1%83%D0%BB%D1%8C%D1%82%D0%B0%D1%86%D0%B8%D0%B8"/>
          <p:cNvPicPr/>
          <p:nvPr/>
        </p:nvPicPr>
        <p:blipFill>
          <a:blip r:embed="rId3"/>
          <a:stretch/>
        </p:blipFill>
        <p:spPr>
          <a:xfrm>
            <a:off x="395280" y="3716280"/>
            <a:ext cx="2733840" cy="2051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1380703077-823468-800980"/>
          <p:cNvPicPr/>
          <p:nvPr/>
        </p:nvPicPr>
        <p:blipFill>
          <a:blip r:embed="rId4"/>
          <a:stretch/>
        </p:blipFill>
        <p:spPr>
          <a:xfrm>
            <a:off x="4500720" y="134136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1285667655-itogi-za-yanvar-2010"/>
          <p:cNvPicPr/>
          <p:nvPr/>
        </p:nvPicPr>
        <p:blipFill>
          <a:blip r:embed="rId5"/>
          <a:stretch/>
        </p:blipFill>
        <p:spPr>
          <a:xfrm>
            <a:off x="0" y="1484280"/>
            <a:ext cx="2665440" cy="1887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2556000" y="1268280"/>
            <a:ext cx="2232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Times New Roman"/>
              </a:rPr>
              <a:t>у </a:t>
            </a:r>
            <a:r>
              <a:rPr b="1" lang="uk-UA" sz="3200" spc="-1" strike="noStrike">
                <a:solidFill>
                  <a:srgbClr val="660066"/>
                </a:solidFill>
                <a:latin typeface="Times New Roman"/>
              </a:rPr>
              <a:t>30</a:t>
            </a:r>
            <a:r>
              <a:rPr b="1" lang="uk-UA" sz="2400" spc="-1" strike="noStrike">
                <a:solidFill>
                  <a:srgbClr val="660066"/>
                </a:solidFill>
                <a:latin typeface="Times New Roman"/>
              </a:rPr>
              <a:t> разів збільшилася кількість звернень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6443640" y="1239840"/>
            <a:ext cx="2448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Times New Roman"/>
              </a:rPr>
              <a:t>на </a:t>
            </a:r>
            <a:r>
              <a:rPr b="1" lang="uk-UA" sz="3200" spc="-1" strike="noStrike">
                <a:solidFill>
                  <a:srgbClr val="660066"/>
                </a:solidFill>
                <a:latin typeface="Times New Roman"/>
              </a:rPr>
              <a:t>40%</a:t>
            </a:r>
            <a:r>
              <a:rPr b="1" lang="uk-UA" sz="2400" spc="-1" strike="noStrike">
                <a:solidFill>
                  <a:srgbClr val="660066"/>
                </a:solidFill>
                <a:latin typeface="Times New Roman"/>
              </a:rPr>
              <a:t> знизилася кількість відмов у наданні послу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2484360" y="3860640"/>
            <a:ext cx="2232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Times New Roman"/>
              </a:rPr>
              <a:t>у </a:t>
            </a:r>
            <a:r>
              <a:rPr b="1" lang="uk-UA" sz="3200" spc="-1" strike="noStrike">
                <a:solidFill>
                  <a:srgbClr val="660066"/>
                </a:solidFill>
                <a:latin typeface="Times New Roman"/>
              </a:rPr>
              <a:t>10 </a:t>
            </a:r>
            <a:r>
              <a:rPr b="1" lang="uk-UA" sz="2400" spc="-1" strike="noStrike">
                <a:solidFill>
                  <a:srgbClr val="660066"/>
                </a:solidFill>
                <a:latin typeface="Times New Roman"/>
              </a:rPr>
              <a:t>разів збільшився об'єм консультаці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6377760" y="4059360"/>
            <a:ext cx="28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Times New Roman"/>
              </a:rPr>
              <a:t>на </a:t>
            </a:r>
            <a:r>
              <a:rPr b="1" lang="uk-UA" sz="3200" spc="-1" strike="noStrike">
                <a:solidFill>
                  <a:srgbClr val="660066"/>
                </a:solidFill>
                <a:latin typeface="Times New Roman"/>
              </a:rPr>
              <a:t>30% </a:t>
            </a:r>
            <a:br>
              <a:rPr sz="3200"/>
            </a:br>
            <a:r>
              <a:rPr b="1" lang="uk-UA" sz="2400" spc="-1" strike="noStrike">
                <a:solidFill>
                  <a:srgbClr val="660066"/>
                </a:solidFill>
                <a:latin typeface="Times New Roman"/>
              </a:rPr>
              <a:t>знизилися витрати</a:t>
            </a:r>
            <a:br>
              <a:rPr sz="2400"/>
            </a:br>
            <a:r>
              <a:rPr b="1" lang="uk-UA" sz="2400" spc="-1" strike="noStrike">
                <a:solidFill>
                  <a:srgbClr val="660066"/>
                </a:solidFill>
                <a:latin typeface="Times New Roman"/>
              </a:rPr>
              <a:t> часу клієн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e4695529e9bbf8b60b6165d76397876b_XL"/>
          <p:cNvPicPr/>
          <p:nvPr/>
        </p:nvPicPr>
        <p:blipFill>
          <a:blip r:embed="rId6"/>
          <a:stretch/>
        </p:blipFill>
        <p:spPr>
          <a:xfrm>
            <a:off x="4643280" y="4130640"/>
            <a:ext cx="1800360" cy="16034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8"/>
          <p:cNvSpPr/>
          <p:nvPr/>
        </p:nvSpPr>
        <p:spPr>
          <a:xfrm>
            <a:off x="324000" y="189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ОКАЗНИКИ РОБО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Центр надання адміністративних послуг Виде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logo new 3"/>
          <p:cNvPicPr/>
          <p:nvPr/>
        </p:nvPicPr>
        <p:blipFill>
          <a:blip r:embed="rId2"/>
          <a:stretch/>
        </p:blipFill>
        <p:spPr>
          <a:xfrm>
            <a:off x="5802480" y="-868320"/>
            <a:ext cx="4170240" cy="292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539640" y="1317600"/>
            <a:ext cx="2295720" cy="743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4"/>
          <a:stretch/>
        </p:blipFill>
        <p:spPr>
          <a:xfrm>
            <a:off x="3276720" y="1341360"/>
            <a:ext cx="1704960" cy="657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5"/>
          <a:stretch/>
        </p:blipFill>
        <p:spPr>
          <a:xfrm>
            <a:off x="5508720" y="1268280"/>
            <a:ext cx="1257120" cy="876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6"/>
          <a:stretch/>
        </p:blipFill>
        <p:spPr>
          <a:xfrm>
            <a:off x="7885080" y="2349360"/>
            <a:ext cx="790560" cy="723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7"/>
          <a:stretch/>
        </p:blipFill>
        <p:spPr>
          <a:xfrm>
            <a:off x="7093080" y="1557360"/>
            <a:ext cx="1552320" cy="32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8"/>
          <a:stretch/>
        </p:blipFill>
        <p:spPr>
          <a:xfrm>
            <a:off x="250920" y="2205000"/>
            <a:ext cx="100944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9"/>
          <a:stretch/>
        </p:blipFill>
        <p:spPr>
          <a:xfrm>
            <a:off x="324000" y="3789360"/>
            <a:ext cx="752400" cy="1800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http://www.dcecrp.ho.ua/img/DCECRP_2015.png"/>
          <p:cNvPicPr/>
          <p:nvPr/>
        </p:nvPicPr>
        <p:blipFill>
          <a:blip r:embed="rId10"/>
          <a:stretch/>
        </p:blipFill>
        <p:spPr>
          <a:xfrm>
            <a:off x="7885080" y="4221000"/>
            <a:ext cx="1028880" cy="743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2"/>
          <p:cNvSpPr/>
          <p:nvPr/>
        </p:nvSpPr>
        <p:spPr>
          <a:xfrm>
            <a:off x="1260360" y="2276640"/>
            <a:ext cx="648036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Times New Roman"/>
                <a:ea typeface="Calibri"/>
              </a:rPr>
              <a:t>За результатами громадського моніторингу центрів надання адміністративних послуг по всій Україні Дніпродзержинський міський центр муніципальних послуг увійшов у десятку кращих центрів України, в тому числі випередивши ряд обласних центр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Times New Roman"/>
                <a:ea typeface="Calibri"/>
              </a:rPr>
              <a:t>Моніторинг центру був проведений у період з 1 по 31 березня 2014 року з використанням методики «таємного клієнта». Перевірка діяльності центру проводилася групою експертів ряду громадських організацій за підтримки Міжнародного фонду «Відродження» та Європейського сою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Times New Roman"/>
                <a:ea typeface="Calibri"/>
              </a:rPr>
              <a:t>Також, центр став учасником іншого оцінювання, проведеного наприкінці 2014 року коаліцією неурядових організацій у складі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Calibri"/>
              </a:rPr>
              <a:t>Transparency International </a:t>
            </a:r>
            <a:r>
              <a:rPr b="1" lang="uk-UA" sz="1600" spc="-1" strike="noStrike">
                <a:solidFill>
                  <a:srgbClr val="000066"/>
                </a:solidFill>
                <a:latin typeface="Times New Roman"/>
                <a:ea typeface="Calibri"/>
              </a:rPr>
              <a:t>Україна, Подільської агенції регіонального розвитку, Асоціації міст України, ВГО «Громадська мережа «Опора», проведеного у 100 містах Украї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Times New Roman"/>
                <a:ea typeface="Calibri"/>
              </a:rPr>
              <a:t>Згідно загального рейтингу оцінки діяльності Центрів надання адміністративних послуг зазначеними організаціями, ЦНАП м.Дніпродзержинська посів 5 місц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-228600" y="-73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-22860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250920" y="2382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-226800" y="375696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230400" y="6159960"/>
            <a:ext cx="2923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-228600" y="759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71280" y="235080"/>
            <a:ext cx="67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ГРОМАДСЬКИЙ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Центр надання адміністративних послуг Виде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14200" y="7128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ПРОЕКТ НОВОГО ПРИМІЩЕННЯ ЦН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logo new 3"/>
          <p:cNvPicPr/>
          <p:nvPr/>
        </p:nvPicPr>
        <p:blipFill>
          <a:blip r:embed="rId2"/>
          <a:stretch/>
        </p:blipFill>
        <p:spPr>
          <a:xfrm>
            <a:off x="5830920" y="-857160"/>
            <a:ext cx="4170240" cy="292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IMG_1452"/>
          <p:cNvPicPr/>
          <p:nvPr/>
        </p:nvPicPr>
        <p:blipFill>
          <a:blip r:embed="rId3"/>
          <a:stretch/>
        </p:blipFill>
        <p:spPr>
          <a:xfrm>
            <a:off x="179280" y="1268280"/>
            <a:ext cx="3203640" cy="264492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  <p:pic>
        <p:nvPicPr>
          <p:cNvPr id="136" name="Picture 10" descr="IMG_1420"/>
          <p:cNvPicPr/>
          <p:nvPr/>
        </p:nvPicPr>
        <p:blipFill>
          <a:blip r:embed="rId4"/>
          <a:stretch/>
        </p:blipFill>
        <p:spPr>
          <a:xfrm>
            <a:off x="179280" y="4076640"/>
            <a:ext cx="3203640" cy="2563920"/>
          </a:xfrm>
          <a:prstGeom prst="rect">
            <a:avLst/>
          </a:prstGeom>
          <a:ln w="28440">
            <a:solidFill>
              <a:srgbClr val="d60093"/>
            </a:solidFill>
            <a:miter/>
          </a:ln>
        </p:spPr>
      </p:pic>
      <p:pic>
        <p:nvPicPr>
          <p:cNvPr id="137" name="Picture 11" descr="IMG_1445"/>
          <p:cNvPicPr/>
          <p:nvPr/>
        </p:nvPicPr>
        <p:blipFill>
          <a:blip r:embed="rId5"/>
          <a:srcRect l="0" t="0" r="15935" b="0"/>
          <a:stretch/>
        </p:blipFill>
        <p:spPr>
          <a:xfrm>
            <a:off x="1332000" y="2781360"/>
            <a:ext cx="2663640" cy="2446200"/>
          </a:xfrm>
          <a:prstGeom prst="rect">
            <a:avLst/>
          </a:prstGeom>
          <a:ln w="28440">
            <a:solidFill>
              <a:srgbClr val="d60093"/>
            </a:solidFill>
            <a:miter/>
          </a:ln>
        </p:spPr>
      </p:pic>
      <p:pic>
        <p:nvPicPr>
          <p:cNvPr id="138" name="Picture 13" descr=""/>
          <p:cNvPicPr/>
          <p:nvPr/>
        </p:nvPicPr>
        <p:blipFill>
          <a:blip r:embed="rId6"/>
          <a:srcRect l="42012" t="8534" r="45186" b="70582"/>
          <a:stretch/>
        </p:blipFill>
        <p:spPr>
          <a:xfrm>
            <a:off x="4067280" y="3068640"/>
            <a:ext cx="936360" cy="15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d2"/>
          <p:cNvPicPr/>
          <p:nvPr/>
        </p:nvPicPr>
        <p:blipFill>
          <a:blip r:embed="rId7"/>
          <a:srcRect l="9833" t="11091" r="0" b="19475"/>
          <a:stretch/>
        </p:blipFill>
        <p:spPr>
          <a:xfrm>
            <a:off x="5003640" y="1268280"/>
            <a:ext cx="3961080" cy="180036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  <p:pic>
        <p:nvPicPr>
          <p:cNvPr id="140" name="Picture 16" descr="seriy_pol2"/>
          <p:cNvPicPr/>
          <p:nvPr/>
        </p:nvPicPr>
        <p:blipFill>
          <a:blip r:embed="rId8"/>
          <a:srcRect l="5171" t="0" r="0" b="13577"/>
          <a:stretch/>
        </p:blipFill>
        <p:spPr>
          <a:xfrm>
            <a:off x="5003640" y="3141720"/>
            <a:ext cx="3961080" cy="194292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  <p:pic>
        <p:nvPicPr>
          <p:cNvPr id="141" name="Picture 17" descr="n_extern3"/>
          <p:cNvPicPr/>
          <p:nvPr/>
        </p:nvPicPr>
        <p:blipFill>
          <a:blip r:embed="rId9"/>
          <a:srcRect l="0" t="25664" r="0" b="0"/>
          <a:stretch/>
        </p:blipFill>
        <p:spPr>
          <a:xfrm>
            <a:off x="5003640" y="5157720"/>
            <a:ext cx="3961080" cy="151128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0T08:21:18Z</dcterms:created>
  <dc:creator>пользователь</dc:creator>
  <dc:description/>
  <dc:language>en-US</dc:language>
  <cp:lastModifiedBy>lenovo</cp:lastModifiedBy>
  <dcterms:modified xsi:type="dcterms:W3CDTF">2015-12-02T12:39:28Z</dcterms:modified>
  <cp:revision>23</cp:revision>
  <dc:subject/>
  <dc:title>Слайд 1</dc:title>
</cp:coreProperties>
</file>